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9EF3-B2EE-4A09-A1FC-13602447C5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0BD3-A529-4EA1-BCCC-798C8EE7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872B9D-0F61-48DC-B2D8-67E33645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06628-E905-4FC5-AEA7-C1D27EC7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0DEC9B-8906-4E17-8CE9-FCBDE8A8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0085D4-3EF2-4C92-9EBA-AA6338B0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54D0D-9703-4966-A862-E12E8DA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DFF0BE-C838-4248-A84F-FDB2BC7C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C39EF6-27DE-4400-B327-B9B0ABEC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687991-D92C-451B-B16A-E062459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E650D-E397-40FF-9C01-14AB88A01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0BC23-4AA0-43EA-A742-C04827173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1ED0-12E6-4635-AFB2-82AED5A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C185A-9171-46F4-8348-5722C340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2E6D-96C2-4AAA-B985-EF53237D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99BE-B291-4699-879E-47A80B8F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C165F-8ECF-4BAC-B42C-25E5188C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C7E5F-442E-48DC-B575-4B678A4B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34821-B067-44B6-9A19-6F9EC91C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0F51B-A2A0-458C-9905-6E29E60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D903-9465-42DB-BEA2-9F8DC2D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8B749-B552-4E59-B4E7-DB5DA917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8E271-D170-4221-BFCB-F8526628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3686-6DEE-4B64-AB0B-AE507E2862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81E4E-7363-4E6B-B163-6EA37FECF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5C7F0-25C2-4E1F-981D-779986ABB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80E60-BEEE-47DF-BC7D-F2511BD7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853F4C-A05A-4F6E-B775-397C836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2C847-2CA4-40ED-AF8C-DA6308AF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0E19D-2F2D-4753-A872-8813E0F9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FF294F-BCE7-4519-9328-5D479B23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EFEC9-02B9-484B-A7BD-DD8C73DD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D55B87-ACB3-488E-972A-F55D6561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DE8327-11E7-41E9-BB40-A042A28F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3835F-792F-4B7E-9639-F419268B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D2F68-4DC6-485E-959C-01BCD6D3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1491D-1BCE-4B60-9EE5-FFB478C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A49AC8-C935-417A-BED0-BC9B60BAEB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78C58-D7B2-4CCD-A640-719F5E967E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1D837-0850-478E-AF52-D85238B2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1C2F5-65F5-4979-9993-06D8B63B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B8EB9-3EAD-40C0-B195-E7D3AC9C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95F92-4EBB-4BD1-849D-E7F50DA6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325B3-9CA0-4576-ACAE-249BCFF6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EBA03-A155-4EB8-B082-65842F85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B926F-18D1-4956-B885-442888C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61042-0177-4655-A41E-799C9AC9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11362-9F43-4819-B64A-215DEB78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0BBD5-AABD-44FD-9F84-B480BFC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92F1C-6290-4237-89DB-22AAA917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FD2B4-59BE-4DDA-8816-EE800C27C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178FF-05E7-4663-882C-F65EC441DE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B2747-B87B-4634-A4E3-D9C1B445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E469E-8DFA-49AB-A9D8-1426EADC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F93FE-8041-420E-8D4D-BECD09BB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863E9-D5E6-483A-A784-55C949E6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5536C-BE87-49D0-857E-AB1F1FD6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E94DB-EA51-426A-B8B6-B817B490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B69C7-1B26-43B9-BC94-376C1FE0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1208E-8794-40D8-9ECF-C74424D7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603D3-0A57-4C49-AADE-DED86F08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0FE3C-3278-4FFB-99D1-20FA6C3A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24D91-9D3D-451E-88A5-F0110FE6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7768A-8B65-47CB-A521-49BC8FA029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989EF-9533-4318-9691-BBE5FBDE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B9DDF-BB4E-4CEB-A3EA-2DEA8C03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49E2F-9C36-4D08-9A87-11215723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16E9B-31C5-4695-854F-C7DA24C2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1D34A-F68B-44D1-BC76-5976BC44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1F95C-9DF6-4B25-9369-4CC975F7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C0AEB-8A9A-4B69-8B45-26D58472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C51EC-50E2-4962-9980-64F191D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FF7EA-EB40-4983-A90D-7D79012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2D35D-7175-4BB3-AFED-9FA720C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7D26A-0586-4362-AA76-201A4318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EA493-CFC3-44EF-B5BC-704A1097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017FE-9EAD-4CFB-A2BF-0172B1BC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644F9-FCB5-4D7D-9C1D-EC1833DC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E8C28-B5B2-4770-80B4-0087B3C0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519A-29CF-40E3-91DE-94B2C572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DFF78-605B-4992-85C6-BD0DF35F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368B1-FBDE-42C2-98C2-A2BCD97A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66FCD-68B8-465F-97FA-886A2D9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E34E-BD08-441A-9108-799AECCB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DA1A9-050B-484E-8CE5-981E52F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A55F3-DD54-4D55-8278-DC42382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CF551-825E-4B09-9E78-9F89D75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4D165-EF0F-4E80-B541-9ECBA94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EC35F-9583-4B79-8805-90FF791C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8B280-1199-46E8-B041-AF03D54B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E6B4C-D050-4420-9A10-7046DECF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1AD20-B5C5-4F77-BFFB-009E8B12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0F0BB-FF15-411D-A173-10559CC5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15DBD-1962-48F2-B5E5-C06D3C4C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5CBA2-D4C9-4374-BEC1-A92BE0AC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DB012-423B-41C3-BCC9-AD0C38B5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D5CA0-1E74-4D21-8C92-85BDA077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41261-D7C4-4E6A-834E-B8A30CF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4B1FB-9996-4C46-A78B-B236AC2B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52C05-5F91-416E-8B47-38CB2A0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59C56-C166-48D9-AB5F-F85DF24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317DF-A507-4DF5-BEBF-0AE67D03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D1401-144C-4F72-AC8F-4F498DAA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7DA76-AF2B-4F00-9B4D-B251B060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1BB74-376F-479F-9BBE-C3BAF9D5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8F4E1-C54C-46FA-ABF7-5E9EE6DF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315BF-10E6-4C67-BABC-2BB857CD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603F6-45C4-4262-AFEF-A7F190A2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458AF-5332-4FE1-B076-D0CA1482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1CFFF-F008-4CEE-A613-EF386F42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CA7B1-821E-4ECA-BE4D-C7E8E95C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AB96-A9FA-41BE-82ED-4DC7C92E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D459C-9F80-4FA6-A907-E4B1F87E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04471-F8A2-4F65-9628-C626BDD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EF646-6684-4212-AA39-CAC03C9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BC2B3-3E67-4A00-BC8C-D1780A42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A8EBA-C568-49B6-A69B-11EF1E4C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B6232-0F4B-4969-B0B7-2E7644D0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E4EDD-1CF7-41BF-8344-3242491C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FAEFC-CD6B-4096-A6F4-F15565EE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85B1C-8147-45E4-A3EE-E7A44B7B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3AE53-7330-4AE1-B3C7-8CF91BB1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91C4D-AC2C-4573-B1FA-4F5D60F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BA0D3-5FCA-4232-B056-89B5F971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D013B-A801-41FB-AD79-E1EE7C89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1AAE5-9FA7-45FA-A252-D0C64DEB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EF01C-98B8-4A26-B614-EE18C94B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1912E-DD3E-48DA-9F4F-83C9F5C0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36606-590C-42CA-8E59-A27DE90E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1DE52-941E-4E96-808B-B1323FFD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C0797-55E9-4632-AC28-EA5FD75B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A07AA-2349-4833-B6BA-7A45A3B0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6043C-A393-4B94-AF5B-1AEC2C5A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D5FFE-74F8-4F76-B27F-37A02C8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2BF54-0A3C-4C75-A96B-CB152F0C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56EAF-16FA-4F9C-BB40-EB3639B6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BE265-C5D0-4171-8724-FE301027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7F284-E784-410C-9440-F52FBB82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B63DF-A6D5-4C1D-94AF-36F2C7B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8B3B1-54C2-4118-A1BD-F16559C6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70A65-CA11-4894-8473-8D5DDFC3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F4084-900C-4CB6-AA0E-7D8CD08D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E7147-9B79-4498-AFB8-35C2A2A3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D0379-332D-4822-A891-8DFEA321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D83D3-CB10-43BB-A449-852030A0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F43FB-D8EE-4D0E-8CF5-8C50A0A5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D0F1A-9226-486E-9ECC-31602C3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0CF26-CDFA-49B9-8A9B-D9E7F66F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ACC6C-7C62-4F32-BD14-7C4258C9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22DD0-275B-40B9-9621-13D1E7A5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6FF2A-48AF-4528-9C0C-43A6F3B9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E0D72-8676-47BF-AF57-F26DECF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BBDC5-8625-4B7D-B922-0C00E8F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94394-BAF1-4319-B73B-E519FA29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DE58E-25C0-47D3-A630-8DD660CA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47768-2AA5-4FC7-B598-9A9630CD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27241-94FC-4EAB-BF33-A7187E4B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0AB71-5A6C-450B-94C9-EC872354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DE10B-5626-4D28-8A8B-DB539C81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8A2B2-078A-4B18-A069-4F03F89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836EA-CE73-4F8C-8818-18A1F35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76BA7-573A-4DC4-9B58-FE35685E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D50BA-5CA5-4C8E-A309-B3E854CC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9CC24-3EBD-427B-80FF-9B8E361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83933-01DB-4665-ABF8-44EFEDAC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2D21C-69D2-45BF-95BC-0B8EA838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5C8BF-F777-44FF-BAB2-1E92B4AA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C3BAE-14A0-4CA7-AE81-89406A9944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6FBE5-DAE7-442C-87A7-F53CC02E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7C7BF-957B-46EC-B8A6-4C884A51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A8903-1006-48E0-A090-9B6517F7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505E8-3DEC-4EFF-B874-CD0A7A6A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95D8D-5CD7-4F04-98C0-C4D66EB9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4F602-D7FA-4CE7-A19B-1BBB8E62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80855-E733-40C1-94DB-9C070D66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A4173-5C67-4B80-8384-D73A2021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36166-721B-43B5-8CFC-CE129F39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A0D2D-623C-4BEE-B1C6-597F474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6A07C-F43D-427A-AD36-E7E1A225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0A155-68A0-432D-A472-A3FDE75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24E8DA-C011-4FD5-B4B7-433882B4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B6DFF-FA66-4992-946B-D108DD78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619F4-30B5-426E-820C-34FE0F81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836DD-529D-4EC9-B9E2-45DC80E1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64B84-C7BF-4D96-9155-A8A54D9E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BA37A-19ED-408B-AE81-DCC19F40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21308D-5C7E-4B9B-A9C7-2D27685C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E1B37-0000-47C0-8021-056AB9D4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B3C58E-AB89-4D0B-810B-E9E9000B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2AA2C-708B-4E15-8B4A-2C638F61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E037F-9275-44CF-810D-5C430CFE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886EB-B1F6-46FD-959A-A154731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61B0F-3E4C-479A-BB8C-1FAE591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0C964-ABB8-4AA0-A428-191914BC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27B667-F74B-499C-823A-9F5FB114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1CAEC-3974-49C3-B704-4485EF70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EF2F2-0FB2-4CD6-9DA7-3EBD762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AB7AF-B0F5-4529-8F24-1B9012F2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B369F5-5B0E-4FAE-92BC-DB606B4B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2BEF28-471D-400D-B6EC-0DD55A88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FE4AE-1771-4E80-A63B-8B3E5BA3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E1556-7DF9-40BD-86DD-31FE3799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7C134-B9B2-4542-A389-25DD222A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8DF48-4275-418B-9600-83EDC31D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4B49D-1E65-4146-A941-F5C5BC4A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374356-62C1-42B7-8E01-BE731AF3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179AA6-8720-4B24-9F81-2185304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FE969-1224-4437-A3C6-E7D950F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517C8-BF34-41DE-A96B-1A67D11B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55280-3B00-49D7-BAA9-8475BBDC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AEA06-5CA5-42D1-92CE-C01FB753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BB41-9898-458E-9BAA-802F1429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322BE-994D-4773-9B8F-425C41BC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24ECC-3916-49B7-8340-3506B0ED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B56E8-AE77-4C4C-B2E3-6185A351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DE3D5-F61F-4619-B15C-81D95653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1DE7D-CFB6-4446-AA78-EEB5D61F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F52C1-2E0B-4864-85C2-6052D0CD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CBD0B-A317-4789-B321-7A65A86DFD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18F4-EAE4-424A-8E22-87A563AD3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7900-CBC6-4D87-BEDC-56AA1CB5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47D2-81CD-4CB1-BF63-0EBF8BCA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C656-37B8-4755-87F5-8B5272F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EBD9-18AE-46FE-8835-FDE9675C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6505-A782-482E-B13E-17C7FAC3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0EF7-7D70-4432-A11E-40A64D9F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D3DC-EBAD-4514-B4A6-1A080872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EC81-093B-4389-A419-9A5347FA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A5DB-16A8-4961-B583-5FF33E79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3538C-F640-47FD-9ABB-09ED7BA4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749E-97D4-4DCD-9A5C-0C2ACCC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0DBF-3800-4E7D-B2C6-5533369FC8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A3F39-F89C-4158-A498-ED4DFF0AF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2E5E-06BD-4A0D-8CD1-39CB2287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ACE7B-142D-4FCD-A10E-76D22634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E2836-62D9-4736-8D1D-7ED1D149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233E0-C1CA-40C9-9B39-AE394E53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1601C-B874-4169-9955-5D2FCC99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7EA9F-1D06-4C6F-97FD-B6AE3065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E3CDE-A020-41B2-8DCB-1D326AEA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16808-4DA0-42DE-AF14-6C2D0B04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5409E-25BF-4601-AFF2-35CE2E2D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C66A6-DDC8-4199-927C-928AC293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8256F-CD31-4ACB-B37C-D1890BA2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8F3E-F42B-422F-B9DB-A353E962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3F344-EA9F-420B-B0BD-21756AC07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35F874-D05B-4319-9C8A-561AFC697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E8CC56-E351-4B3E-9CFE-1D0D621B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9D9A0-46FF-4F68-9DDF-7141B55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5CE5B1-ED85-48BA-9C07-DD7F2B51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84F2E2-7AAD-4BBB-B072-3CA0F51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D8D72-401D-476B-944C-E7765590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C987C-C01B-4579-AD40-902081B1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C5CD7E-95AA-42C5-AA9E-495209A4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92C3FA-5F7D-4C3D-A59C-BD1B1C1D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3F9A-7B97-415E-81DD-ED4067CD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BC6F21-32BA-4B1F-9843-9014B2A1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49B7CF-CABB-42BC-A783-787B4232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EE9C68-A0BE-4124-8B3E-F6AB48E25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D487-CEBE-4524-9ED0-906BEB8E99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5B98-33E9-4B33-A16A-E39EE5A1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529D-04C9-40F8-BE7D-ACB2F02E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B77CB-4522-49F3-A948-B33459A8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DA460-F738-480F-831A-DA7778ED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2AF9-AA62-451C-99F6-F1A1AE64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B941-39CD-4FB4-B413-88D412B8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2F9A-DCF9-4244-8046-7D5BF97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E4E7-4EFD-4DC0-A950-8E51B97B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0445-3088-48F5-89B0-E7A65079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B80F3-E4C9-4DC5-A496-5D1A3117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8148A-3C50-4E8F-AE78-CECAAF0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C0BDF-5E0B-456A-BF10-340C5366C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DCD8A-C888-4D52-B99D-58EF4E364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D5BE7-9308-4BD6-9424-7ADA130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9F944-9BB9-4362-88A6-BCD2412F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1A986-4000-4717-B1C9-985B7471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8E8EC-8EE4-44F0-BBCD-BB94FE7B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A003-0B2C-4446-AC1C-9390628A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413EF-0AF2-4884-BD5B-28E7F5FB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182C1-509A-4D27-90CA-DCAFF824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E2BB0-CF06-4397-B841-35A22F7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8B93E-3EB0-4F03-A6FF-9646621C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8241B-E20A-4364-A927-028A018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F84E0-FD28-4932-B349-C6448F9E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7E178-3061-4586-8036-D0BCBA482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495A0-8589-4600-966A-598777C7E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5CE149-0EC4-49E1-A38B-38CD424B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4C0995-34B8-42FF-84D3-4935DA4A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F745-3B07-480F-AA24-1673BE7316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4A78-0D6E-4464-8ECA-E1F91B9E6A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F1E-6043-4FCF-9789-2750C840F0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3868-C896-4972-A3DC-D67182F759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D1B6-D914-4E4F-940F-FBCFFB6168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2E9E-401F-4BAA-B551-4F9CE5D53BB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E1B-0E10-4BB8-94FC-99DA46EA8C6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FFB6-3A74-4DC6-87E6-917C0B1A8E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DF24-64F7-412A-A365-3EDC62D5BB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DAEB-577C-4358-8DCF-CA34645E4D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E363-A25B-4F5F-9AB8-FE7208E616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B368-E59D-41CA-81B8-A6AA17FC8C0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4D8C-8F5D-4500-9231-B28398F277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0B12-0035-4481-85A9-C03842D165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571-BCDB-45CD-ADEA-B2A2BFF38A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29A7-51D0-4CE4-A064-3E3E59A3E2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6A7-C3EA-435A-8781-A5FBEF58F8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5E5-CEBE-4E1F-9F4D-2833A08725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17E-60C0-4563-A4EE-417E07BF0E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3BB9-EED7-46E7-BBF6-4EEB927B5E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055F-DB1B-4D11-865A-4357402F63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53BE-5581-463A-BD7F-014A44834B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155-CFD7-47DC-B0A1-F4DA22B06E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E699-57F1-48F3-81F2-843B4BCC17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0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2892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81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2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83" name="椭圆 2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4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5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6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1" name="Rectangle 64"/>
          <p:cNvSpPr/>
          <p:nvPr/>
        </p:nvSpPr>
        <p:spPr>
          <a:xfrm>
            <a:off x="452520" y="4932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1"/>
          <p:cNvSpPr/>
          <p:nvPr/>
        </p:nvSpPr>
        <p:spPr>
          <a:xfrm>
            <a:off x="2189160" y="264960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263520" y="9932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工人叔叔每人要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卡通玩具，已经做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，还要做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9=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还要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4"/>
          <p:cNvSpPr/>
          <p:nvPr/>
        </p:nvSpPr>
        <p:spPr>
          <a:xfrm>
            <a:off x="1828800" y="2724120"/>
            <a:ext cx="3502080" cy="13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24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2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909720" y="104760"/>
            <a:ext cx="175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 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1071720" y="1465200"/>
            <a:ext cx="75009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开火车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1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2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4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500" spc="-1" strike="noStrike">
                <a:solidFill>
                  <a:srgbClr val="808080"/>
                </a:solidFill>
                <a:latin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1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5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5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3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1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3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2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3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5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1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4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　　　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1285920" y="2736720"/>
            <a:ext cx="2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4"/>
          <p:cNvSpPr/>
          <p:nvPr/>
        </p:nvSpPr>
        <p:spPr>
          <a:xfrm>
            <a:off x="2000160" y="2165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5"/>
          <p:cNvSpPr/>
          <p:nvPr/>
        </p:nvSpPr>
        <p:spPr>
          <a:xfrm>
            <a:off x="3714840" y="2165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6"/>
          <p:cNvSpPr/>
          <p:nvPr/>
        </p:nvSpPr>
        <p:spPr>
          <a:xfrm>
            <a:off x="5429160" y="2165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7"/>
          <p:cNvSpPr/>
          <p:nvPr/>
        </p:nvSpPr>
        <p:spPr>
          <a:xfrm>
            <a:off x="7151760" y="2195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1906560" y="27687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9"/>
          <p:cNvSpPr/>
          <p:nvPr/>
        </p:nvSpPr>
        <p:spPr>
          <a:xfrm>
            <a:off x="3654360" y="27464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10"/>
          <p:cNvSpPr/>
          <p:nvPr/>
        </p:nvSpPr>
        <p:spPr>
          <a:xfrm>
            <a:off x="5369040" y="2746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11"/>
          <p:cNvSpPr/>
          <p:nvPr/>
        </p:nvSpPr>
        <p:spPr>
          <a:xfrm>
            <a:off x="7223040" y="27795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2"/>
          <p:cNvSpPr/>
          <p:nvPr/>
        </p:nvSpPr>
        <p:spPr>
          <a:xfrm>
            <a:off x="1928880" y="3308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3"/>
          <p:cNvSpPr/>
          <p:nvPr/>
        </p:nvSpPr>
        <p:spPr>
          <a:xfrm>
            <a:off x="3654360" y="33177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14"/>
          <p:cNvSpPr/>
          <p:nvPr/>
        </p:nvSpPr>
        <p:spPr>
          <a:xfrm>
            <a:off x="5380200" y="3325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15"/>
          <p:cNvSpPr/>
          <p:nvPr/>
        </p:nvSpPr>
        <p:spPr>
          <a:xfrm>
            <a:off x="7169040" y="3325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6"/>
          <p:cNvSpPr/>
          <p:nvPr/>
        </p:nvSpPr>
        <p:spPr>
          <a:xfrm>
            <a:off x="1928880" y="3889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7"/>
          <p:cNvSpPr/>
          <p:nvPr/>
        </p:nvSpPr>
        <p:spPr>
          <a:xfrm>
            <a:off x="3643200" y="38797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18"/>
          <p:cNvSpPr/>
          <p:nvPr/>
        </p:nvSpPr>
        <p:spPr>
          <a:xfrm>
            <a:off x="5400720" y="3889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19"/>
          <p:cNvSpPr/>
          <p:nvPr/>
        </p:nvSpPr>
        <p:spPr>
          <a:xfrm>
            <a:off x="7180200" y="38894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0"/>
          <p:cNvSpPr/>
          <p:nvPr/>
        </p:nvSpPr>
        <p:spPr>
          <a:xfrm>
            <a:off x="1928880" y="44686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1"/>
          <p:cNvSpPr/>
          <p:nvPr/>
        </p:nvSpPr>
        <p:spPr>
          <a:xfrm>
            <a:off x="3665520" y="44751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22"/>
          <p:cNvSpPr/>
          <p:nvPr/>
        </p:nvSpPr>
        <p:spPr>
          <a:xfrm>
            <a:off x="5380200" y="44798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23"/>
          <p:cNvSpPr/>
          <p:nvPr/>
        </p:nvSpPr>
        <p:spPr>
          <a:xfrm>
            <a:off x="7165800" y="44402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3" name="圆角矩形 24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4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5" name="椭圆 2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椭圆 15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3" name="矩形 1"/>
          <p:cNvSpPr/>
          <p:nvPr/>
        </p:nvSpPr>
        <p:spPr>
          <a:xfrm>
            <a:off x="1707840" y="8424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组合 8"/>
          <p:cNvGrpSpPr/>
          <p:nvPr/>
        </p:nvGrpSpPr>
        <p:grpSpPr>
          <a:xfrm>
            <a:off x="720360" y="1019520"/>
            <a:ext cx="8018640" cy="1902240"/>
            <a:chOff x="720360" y="1019520"/>
            <a:chExt cx="8018640" cy="1902240"/>
          </a:xfrm>
        </p:grpSpPr>
        <p:pic>
          <p:nvPicPr>
            <p:cNvPr id="1045" name="Picture 2" descr="D:\我的文档-桌面-收藏夹\桌面\1212241745128.jpg"/>
            <p:cNvPicPr/>
            <p:nvPr/>
          </p:nvPicPr>
          <p:blipFill>
            <a:blip r:embed="rId8"/>
            <a:stretch/>
          </p:blipFill>
          <p:spPr>
            <a:xfrm rot="1447800">
              <a:off x="697392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2" descr="D:\我的文档-桌面-收藏夹\桌面\1212241745128.jpg"/>
            <p:cNvPicPr/>
            <p:nvPr/>
          </p:nvPicPr>
          <p:blipFill>
            <a:blip r:embed="rId9"/>
            <a:stretch/>
          </p:blipFill>
          <p:spPr>
            <a:xfrm rot="1447800">
              <a:off x="575388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2" descr="D:\我的文档-桌面-收藏夹\桌面\1212241745128.jpg"/>
            <p:cNvPicPr/>
            <p:nvPr/>
          </p:nvPicPr>
          <p:blipFill>
            <a:blip r:embed="rId10"/>
            <a:stretch/>
          </p:blipFill>
          <p:spPr>
            <a:xfrm rot="1447800">
              <a:off x="452268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2" descr="D:\我的文档-桌面-收藏夹\桌面\1212241745128.jpg"/>
            <p:cNvPicPr/>
            <p:nvPr/>
          </p:nvPicPr>
          <p:blipFill>
            <a:blip r:embed="rId11"/>
            <a:stretch/>
          </p:blipFill>
          <p:spPr>
            <a:xfrm rot="1447800">
              <a:off x="330300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2" descr="D:\我的文档-桌面-收藏夹\桌面\1212241745128.jpg"/>
            <p:cNvPicPr/>
            <p:nvPr/>
          </p:nvPicPr>
          <p:blipFill>
            <a:blip r:embed="rId12"/>
            <a:stretch/>
          </p:blipFill>
          <p:spPr>
            <a:xfrm rot="1447800">
              <a:off x="2079000" y="1287000"/>
              <a:ext cx="157752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2" descr="D:\我的文档-桌面-收藏夹\桌面\1212241745128.jpg"/>
            <p:cNvPicPr/>
            <p:nvPr/>
          </p:nvPicPr>
          <p:blipFill>
            <a:blip r:embed="rId13"/>
            <a:stretch/>
          </p:blipFill>
          <p:spPr>
            <a:xfrm rot="1447800">
              <a:off x="907560" y="1400040"/>
              <a:ext cx="1577520" cy="1253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51" name=""/>
          <p:cNvGraphicFramePr/>
          <p:nvPr/>
        </p:nvGraphicFramePr>
        <p:xfrm>
          <a:off x="1141560" y="3419640"/>
          <a:ext cx="6715080" cy="944280"/>
        </p:xfrm>
        <a:graphic>
          <a:graphicData uri="http://schemas.openxmlformats.org/drawingml/2006/table">
            <a:tbl>
              <a:tblPr/>
              <a:tblGrid>
                <a:gridCol w="1611360"/>
                <a:gridCol w="888840"/>
                <a:gridCol w="857520"/>
                <a:gridCol w="857160"/>
                <a:gridCol w="857160"/>
                <a:gridCol w="857160"/>
                <a:gridCol w="785880"/>
              </a:tblGrid>
              <a:tr h="472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豆荚个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豆子颗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2" name="矩形 11"/>
          <p:cNvSpPr/>
          <p:nvPr/>
        </p:nvSpPr>
        <p:spPr>
          <a:xfrm>
            <a:off x="4678200" y="3894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2"/>
          <p:cNvSpPr/>
          <p:nvPr/>
        </p:nvSpPr>
        <p:spPr>
          <a:xfrm>
            <a:off x="5570640" y="3894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3"/>
          <p:cNvSpPr/>
          <p:nvPr/>
        </p:nvSpPr>
        <p:spPr>
          <a:xfrm>
            <a:off x="6356520" y="3894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4"/>
          <p:cNvSpPr/>
          <p:nvPr/>
        </p:nvSpPr>
        <p:spPr>
          <a:xfrm>
            <a:off x="7213680" y="3894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八边形 22"/>
          <p:cNvSpPr/>
          <p:nvPr/>
        </p:nvSpPr>
        <p:spPr>
          <a:xfrm>
            <a:off x="31428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58" name="圆角矩形 24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9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60" name="椭圆 26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椭圆 15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3" name="椭圆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8" name="Rectangle 51"/>
          <p:cNvSpPr/>
          <p:nvPr/>
        </p:nvSpPr>
        <p:spPr>
          <a:xfrm>
            <a:off x="1746360" y="40924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圆角矩形 18"/>
          <p:cNvSpPr/>
          <p:nvPr/>
        </p:nvSpPr>
        <p:spPr>
          <a:xfrm>
            <a:off x="2638440" y="1292400"/>
            <a:ext cx="2000160" cy="310176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101760"/>
              <a:gd name="textAreaBottom" fmla="*/ 3004200 h 3101760"/>
            </a:gdLst>
            <a:ahLst/>
            <a:rect l="textAreaLeft" t="textAreaTop" r="textAreaRight" b="textAreaBottom"/>
            <a:pathLst>
              <a:path w="21600" h="33494">
                <a:moveTo>
                  <a:pt x="3600" y="0"/>
                </a:moveTo>
                <a:arcTo wR="3600" hR="3600" stAng="16200000" swAng="-5400000"/>
                <a:lnTo>
                  <a:pt x="0" y="29894"/>
                </a:lnTo>
                <a:arcTo wR="3600" hR="3600" stAng="10800000" swAng="-5400000"/>
                <a:lnTo>
                  <a:pt x="18000" y="33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99"/>
          </a:solidFill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51"/>
          <p:cNvSpPr/>
          <p:nvPr/>
        </p:nvSpPr>
        <p:spPr>
          <a:xfrm>
            <a:off x="1746360" y="2890800"/>
            <a:ext cx="6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51"/>
          <p:cNvSpPr/>
          <p:nvPr/>
        </p:nvSpPr>
        <p:spPr>
          <a:xfrm>
            <a:off x="1746360" y="2422440"/>
            <a:ext cx="6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51"/>
          <p:cNvSpPr/>
          <p:nvPr/>
        </p:nvSpPr>
        <p:spPr>
          <a:xfrm>
            <a:off x="1746360" y="1920960"/>
            <a:ext cx="6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51"/>
          <p:cNvSpPr/>
          <p:nvPr/>
        </p:nvSpPr>
        <p:spPr>
          <a:xfrm>
            <a:off x="3495600" y="1878120"/>
            <a:ext cx="9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1"/>
          <p:cNvSpPr/>
          <p:nvPr/>
        </p:nvSpPr>
        <p:spPr>
          <a:xfrm>
            <a:off x="1746360" y="137808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组合 78"/>
          <p:cNvGrpSpPr/>
          <p:nvPr/>
        </p:nvGrpSpPr>
        <p:grpSpPr>
          <a:xfrm>
            <a:off x="996840" y="1778040"/>
            <a:ext cx="5464440" cy="633240"/>
            <a:chOff x="996840" y="1778040"/>
            <a:chExt cx="5464440" cy="633240"/>
          </a:xfrm>
        </p:grpSpPr>
        <p:sp>
          <p:nvSpPr>
            <p:cNvPr id="1076" name="TextBox 44"/>
            <p:cNvSpPr/>
            <p:nvPr/>
          </p:nvSpPr>
          <p:spPr>
            <a:xfrm>
              <a:off x="996840" y="186660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2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Box 46"/>
            <p:cNvSpPr/>
            <p:nvPr/>
          </p:nvSpPr>
          <p:spPr>
            <a:xfrm>
              <a:off x="2664000" y="1778040"/>
              <a:ext cx="2143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二六（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Box 48"/>
            <p:cNvSpPr/>
            <p:nvPr/>
          </p:nvSpPr>
          <p:spPr>
            <a:xfrm>
              <a:off x="4889880" y="190404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2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矩形 17"/>
            <p:cNvSpPr/>
            <p:nvPr/>
          </p:nvSpPr>
          <p:spPr>
            <a:xfrm>
              <a:off x="1765080" y="1937880"/>
              <a:ext cx="450000" cy="39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矩形 52"/>
            <p:cNvSpPr/>
            <p:nvPr/>
          </p:nvSpPr>
          <p:spPr>
            <a:xfrm>
              <a:off x="5675760" y="2021040"/>
              <a:ext cx="400680" cy="39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Rectangle 51"/>
          <p:cNvSpPr/>
          <p:nvPr/>
        </p:nvSpPr>
        <p:spPr>
          <a:xfrm>
            <a:off x="5654520" y="3124080"/>
            <a:ext cx="6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1"/>
          <p:cNvSpPr/>
          <p:nvPr/>
        </p:nvSpPr>
        <p:spPr>
          <a:xfrm>
            <a:off x="5654520" y="2540160"/>
            <a:ext cx="4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1"/>
          <p:cNvSpPr/>
          <p:nvPr/>
        </p:nvSpPr>
        <p:spPr>
          <a:xfrm>
            <a:off x="5654520" y="2016000"/>
            <a:ext cx="6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79"/>
          <p:cNvGrpSpPr/>
          <p:nvPr/>
        </p:nvGrpSpPr>
        <p:grpSpPr>
          <a:xfrm>
            <a:off x="995400" y="2394000"/>
            <a:ext cx="5214960" cy="496800"/>
            <a:chOff x="995400" y="2394000"/>
            <a:chExt cx="5214960" cy="496800"/>
          </a:xfrm>
        </p:grpSpPr>
        <p:sp>
          <p:nvSpPr>
            <p:cNvPr id="1085" name="TextBox 34"/>
            <p:cNvSpPr/>
            <p:nvPr/>
          </p:nvSpPr>
          <p:spPr>
            <a:xfrm>
              <a:off x="995400" y="2394000"/>
              <a:ext cx="12859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3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31"/>
            <p:cNvSpPr/>
            <p:nvPr/>
          </p:nvSpPr>
          <p:spPr>
            <a:xfrm>
              <a:off x="2625120" y="2422440"/>
              <a:ext cx="21430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六（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32"/>
            <p:cNvSpPr/>
            <p:nvPr/>
          </p:nvSpPr>
          <p:spPr>
            <a:xfrm>
              <a:off x="4924440" y="2406600"/>
              <a:ext cx="12859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3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矩形 48"/>
            <p:cNvSpPr/>
            <p:nvPr/>
          </p:nvSpPr>
          <p:spPr>
            <a:xfrm>
              <a:off x="1763640" y="2418480"/>
              <a:ext cx="422280" cy="40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56"/>
            <p:cNvSpPr/>
            <p:nvPr/>
          </p:nvSpPr>
          <p:spPr>
            <a:xfrm>
              <a:off x="5710320" y="2539080"/>
              <a:ext cx="423360" cy="35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51"/>
          <p:cNvSpPr/>
          <p:nvPr/>
        </p:nvSpPr>
        <p:spPr>
          <a:xfrm>
            <a:off x="5727600" y="13780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组合 77"/>
          <p:cNvGrpSpPr/>
          <p:nvPr/>
        </p:nvGrpSpPr>
        <p:grpSpPr>
          <a:xfrm>
            <a:off x="900000" y="1353960"/>
            <a:ext cx="5292720" cy="459000"/>
            <a:chOff x="900000" y="1353960"/>
            <a:chExt cx="5292720" cy="459000"/>
          </a:xfrm>
        </p:grpSpPr>
        <p:sp>
          <p:nvSpPr>
            <p:cNvPr id="1092" name="TextBox 43"/>
            <p:cNvSpPr/>
            <p:nvPr/>
          </p:nvSpPr>
          <p:spPr>
            <a:xfrm>
              <a:off x="900000" y="1377720"/>
              <a:ext cx="12150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1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Box 45"/>
            <p:cNvSpPr/>
            <p:nvPr/>
          </p:nvSpPr>
          <p:spPr>
            <a:xfrm>
              <a:off x="2476440" y="1385280"/>
              <a:ext cx="1571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六得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Box 47"/>
            <p:cNvSpPr/>
            <p:nvPr/>
          </p:nvSpPr>
          <p:spPr>
            <a:xfrm>
              <a:off x="4906800" y="1353960"/>
              <a:ext cx="1285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1=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51"/>
            <p:cNvSpPr/>
            <p:nvPr/>
          </p:nvSpPr>
          <p:spPr>
            <a:xfrm>
              <a:off x="1689840" y="1385280"/>
              <a:ext cx="433080" cy="39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59"/>
            <p:cNvSpPr/>
            <p:nvPr/>
          </p:nvSpPr>
          <p:spPr>
            <a:xfrm>
              <a:off x="5740200" y="1385280"/>
              <a:ext cx="379800" cy="39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组合 80"/>
          <p:cNvGrpSpPr/>
          <p:nvPr/>
        </p:nvGrpSpPr>
        <p:grpSpPr>
          <a:xfrm>
            <a:off x="1020600" y="2833560"/>
            <a:ext cx="5135760" cy="644760"/>
            <a:chOff x="1020600" y="2833560"/>
            <a:chExt cx="5135760" cy="644760"/>
          </a:xfrm>
        </p:grpSpPr>
        <p:sp>
          <p:nvSpPr>
            <p:cNvPr id="1098" name="TextBox 64"/>
            <p:cNvSpPr/>
            <p:nvPr/>
          </p:nvSpPr>
          <p:spPr>
            <a:xfrm>
              <a:off x="2663640" y="2931480"/>
              <a:ext cx="214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六（       ）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Box 65"/>
            <p:cNvSpPr/>
            <p:nvPr/>
          </p:nvSpPr>
          <p:spPr>
            <a:xfrm>
              <a:off x="1020600" y="283356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4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49"/>
            <p:cNvSpPr/>
            <p:nvPr/>
          </p:nvSpPr>
          <p:spPr>
            <a:xfrm>
              <a:off x="1769760" y="2935080"/>
              <a:ext cx="441000" cy="32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57"/>
            <p:cNvSpPr/>
            <p:nvPr/>
          </p:nvSpPr>
          <p:spPr>
            <a:xfrm>
              <a:off x="5710680" y="3094200"/>
              <a:ext cx="44568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Box 65"/>
            <p:cNvSpPr/>
            <p:nvPr/>
          </p:nvSpPr>
          <p:spPr>
            <a:xfrm>
              <a:off x="4870440" y="3002040"/>
              <a:ext cx="1285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4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1"/>
          <p:cNvSpPr/>
          <p:nvPr/>
        </p:nvSpPr>
        <p:spPr>
          <a:xfrm>
            <a:off x="1746360" y="347832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1"/>
          <p:cNvSpPr/>
          <p:nvPr/>
        </p:nvSpPr>
        <p:spPr>
          <a:xfrm>
            <a:off x="5654520" y="3619440"/>
            <a:ext cx="6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81"/>
          <p:cNvGrpSpPr/>
          <p:nvPr/>
        </p:nvGrpSpPr>
        <p:grpSpPr>
          <a:xfrm>
            <a:off x="993600" y="3352680"/>
            <a:ext cx="5197680" cy="666720"/>
            <a:chOff x="993600" y="3352680"/>
            <a:chExt cx="5197680" cy="666720"/>
          </a:xfrm>
        </p:grpSpPr>
        <p:sp>
          <p:nvSpPr>
            <p:cNvPr id="1106" name="TextBox 64"/>
            <p:cNvSpPr/>
            <p:nvPr/>
          </p:nvSpPr>
          <p:spPr>
            <a:xfrm>
              <a:off x="2708640" y="3460680"/>
              <a:ext cx="2142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五六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Box 65"/>
            <p:cNvSpPr/>
            <p:nvPr/>
          </p:nvSpPr>
          <p:spPr>
            <a:xfrm>
              <a:off x="993600" y="3352680"/>
              <a:ext cx="1285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5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64"/>
            <p:cNvSpPr/>
            <p:nvPr/>
          </p:nvSpPr>
          <p:spPr>
            <a:xfrm>
              <a:off x="1744560" y="3420360"/>
              <a:ext cx="422640" cy="42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矩形 66"/>
            <p:cNvSpPr/>
            <p:nvPr/>
          </p:nvSpPr>
          <p:spPr>
            <a:xfrm>
              <a:off x="5707800" y="3593160"/>
              <a:ext cx="446760" cy="42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Box 65"/>
            <p:cNvSpPr/>
            <p:nvPr/>
          </p:nvSpPr>
          <p:spPr>
            <a:xfrm>
              <a:off x="4905720" y="3522600"/>
              <a:ext cx="1285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5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Rectangle 51"/>
          <p:cNvSpPr/>
          <p:nvPr/>
        </p:nvSpPr>
        <p:spPr>
          <a:xfrm>
            <a:off x="5654520" y="4019400"/>
            <a:ext cx="6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组合 82"/>
          <p:cNvGrpSpPr/>
          <p:nvPr/>
        </p:nvGrpSpPr>
        <p:grpSpPr>
          <a:xfrm>
            <a:off x="963720" y="3921120"/>
            <a:ext cx="5227560" cy="500040"/>
            <a:chOff x="963720" y="3921120"/>
            <a:chExt cx="5227560" cy="500040"/>
          </a:xfrm>
        </p:grpSpPr>
        <p:sp>
          <p:nvSpPr>
            <p:cNvPr id="1113" name="TextBox 65"/>
            <p:cNvSpPr/>
            <p:nvPr/>
          </p:nvSpPr>
          <p:spPr>
            <a:xfrm>
              <a:off x="963720" y="3992040"/>
              <a:ext cx="128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70"/>
            <p:cNvSpPr/>
            <p:nvPr/>
          </p:nvSpPr>
          <p:spPr>
            <a:xfrm>
              <a:off x="1714680" y="4020120"/>
              <a:ext cx="453600" cy="40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72"/>
            <p:cNvSpPr/>
            <p:nvPr/>
          </p:nvSpPr>
          <p:spPr>
            <a:xfrm>
              <a:off x="5674320" y="4071600"/>
              <a:ext cx="457560" cy="33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Box 65"/>
            <p:cNvSpPr/>
            <p:nvPr/>
          </p:nvSpPr>
          <p:spPr>
            <a:xfrm>
              <a:off x="4905720" y="3978000"/>
              <a:ext cx="128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Box 64"/>
            <p:cNvSpPr/>
            <p:nvPr/>
          </p:nvSpPr>
          <p:spPr>
            <a:xfrm>
              <a:off x="2601720" y="3921120"/>
              <a:ext cx="214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六六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Rectangle 51"/>
          <p:cNvSpPr/>
          <p:nvPr/>
        </p:nvSpPr>
        <p:spPr>
          <a:xfrm>
            <a:off x="3495600" y="3992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16"/>
          <p:cNvSpPr/>
          <p:nvPr/>
        </p:nvSpPr>
        <p:spPr>
          <a:xfrm>
            <a:off x="3494160" y="2523960"/>
            <a:ext cx="8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19"/>
          <p:cNvSpPr/>
          <p:nvPr/>
        </p:nvSpPr>
        <p:spPr>
          <a:xfrm>
            <a:off x="3438360" y="29908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二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20"/>
          <p:cNvSpPr/>
          <p:nvPr/>
        </p:nvSpPr>
        <p:spPr>
          <a:xfrm>
            <a:off x="3524400" y="35560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三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矩形 3"/>
          <p:cNvSpPr/>
          <p:nvPr/>
        </p:nvSpPr>
        <p:spPr>
          <a:xfrm>
            <a:off x="214200" y="98568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一句口诀写出两个乘法算式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4"/>
          <p:cNvSpPr/>
          <p:nvPr/>
        </p:nvSpPr>
        <p:spPr>
          <a:xfrm>
            <a:off x="1320840" y="1557360"/>
            <a:ext cx="171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三六十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直接连接符 6"/>
          <p:cNvSpPr/>
          <p:nvPr/>
        </p:nvSpPr>
        <p:spPr>
          <a:xfrm>
            <a:off x="1214280" y="2557440"/>
            <a:ext cx="1714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直接连接符 9"/>
          <p:cNvSpPr/>
          <p:nvPr/>
        </p:nvSpPr>
        <p:spPr>
          <a:xfrm>
            <a:off x="1214280" y="3200400"/>
            <a:ext cx="1714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10"/>
          <p:cNvSpPr/>
          <p:nvPr/>
        </p:nvSpPr>
        <p:spPr>
          <a:xfrm>
            <a:off x="1357200" y="207972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×6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11"/>
          <p:cNvSpPr/>
          <p:nvPr/>
        </p:nvSpPr>
        <p:spPr>
          <a:xfrm>
            <a:off x="1357200" y="27003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3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15"/>
          <p:cNvSpPr/>
          <p:nvPr/>
        </p:nvSpPr>
        <p:spPr>
          <a:xfrm>
            <a:off x="3714840" y="1557360"/>
            <a:ext cx="171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五六三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直接连接符 16"/>
          <p:cNvSpPr/>
          <p:nvPr/>
        </p:nvSpPr>
        <p:spPr>
          <a:xfrm>
            <a:off x="3606840" y="2557440"/>
            <a:ext cx="171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17"/>
          <p:cNvSpPr/>
          <p:nvPr/>
        </p:nvSpPr>
        <p:spPr>
          <a:xfrm>
            <a:off x="3606840" y="3200400"/>
            <a:ext cx="171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18"/>
          <p:cNvSpPr/>
          <p:nvPr/>
        </p:nvSpPr>
        <p:spPr>
          <a:xfrm>
            <a:off x="3749760" y="2079720"/>
            <a:ext cx="143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×6=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19"/>
          <p:cNvSpPr/>
          <p:nvPr/>
        </p:nvSpPr>
        <p:spPr>
          <a:xfrm>
            <a:off x="3749760" y="2700360"/>
            <a:ext cx="143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5=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20"/>
          <p:cNvSpPr/>
          <p:nvPr/>
        </p:nvSpPr>
        <p:spPr>
          <a:xfrm>
            <a:off x="6000840" y="155736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六二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直接连接符 21"/>
          <p:cNvSpPr/>
          <p:nvPr/>
        </p:nvSpPr>
        <p:spPr>
          <a:xfrm>
            <a:off x="6037200" y="2557440"/>
            <a:ext cx="1714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直接连接符 22"/>
          <p:cNvSpPr/>
          <p:nvPr/>
        </p:nvSpPr>
        <p:spPr>
          <a:xfrm>
            <a:off x="6037200" y="3200400"/>
            <a:ext cx="1714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23"/>
          <p:cNvSpPr/>
          <p:nvPr/>
        </p:nvSpPr>
        <p:spPr>
          <a:xfrm>
            <a:off x="6180120" y="207972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6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24"/>
          <p:cNvSpPr/>
          <p:nvPr/>
        </p:nvSpPr>
        <p:spPr>
          <a:xfrm>
            <a:off x="6180120" y="27003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4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30"/>
          <p:cNvSpPr/>
          <p:nvPr/>
        </p:nvSpPr>
        <p:spPr>
          <a:xfrm>
            <a:off x="357120" y="3629160"/>
            <a:ext cx="42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组合 75"/>
          <p:cNvGrpSpPr/>
          <p:nvPr/>
        </p:nvGrpSpPr>
        <p:grpSpPr>
          <a:xfrm>
            <a:off x="785880" y="3700440"/>
            <a:ext cx="7748640" cy="1300320"/>
            <a:chOff x="785880" y="3700440"/>
            <a:chExt cx="7748640" cy="1300320"/>
          </a:xfrm>
        </p:grpSpPr>
        <p:pic>
          <p:nvPicPr>
            <p:cNvPr id="1140" name="Picture 5" descr="D:\我的文档-桌面-收藏夹\桌面\40r58PICIfT.jpg"/>
            <p:cNvPicPr/>
            <p:nvPr/>
          </p:nvPicPr>
          <p:blipFill>
            <a:blip r:embed="rId1"/>
            <a:srcRect l="30003" t="19515" r="28463" b="12804"/>
            <a:stretch/>
          </p:blipFill>
          <p:spPr>
            <a:xfrm>
              <a:off x="785880" y="3714840"/>
              <a:ext cx="1905120" cy="12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1" name="组合 47"/>
            <p:cNvGrpSpPr/>
            <p:nvPr/>
          </p:nvGrpSpPr>
          <p:grpSpPr>
            <a:xfrm>
              <a:off x="842400" y="3700440"/>
              <a:ext cx="1714680" cy="1285920"/>
              <a:chOff x="842400" y="3700440"/>
              <a:chExt cx="1714680" cy="1285920"/>
            </a:xfrm>
          </p:grpSpPr>
          <p:pic>
            <p:nvPicPr>
              <p:cNvPr id="1142" name="Picture 7" descr="D:\我的文档-桌面-收藏夹\桌面\6608733_111540136000_2副本.png"/>
              <p:cNvPicPr/>
              <p:nvPr/>
            </p:nvPicPr>
            <p:blipFill>
              <a:blip r:embed="rId2"/>
              <a:stretch/>
            </p:blipFill>
            <p:spPr>
              <a:xfrm>
                <a:off x="842400" y="374436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Picture 7" descr="D:\我的文档-桌面-收藏夹\桌面\6608733_111540136000_2副本.png"/>
              <p:cNvPicPr/>
              <p:nvPr/>
            </p:nvPicPr>
            <p:blipFill>
              <a:blip r:embed="rId3"/>
              <a:stretch/>
            </p:blipFill>
            <p:spPr>
              <a:xfrm>
                <a:off x="842400" y="401760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Picture 7" descr="D:\我的文档-桌面-收藏夹\桌面\6608733_111540136000_2副本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132840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7" descr="D:\我的文档-桌面-收藏夹\桌面\6608733_111540136000_2副本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1280880" y="405252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Picture 7" descr="D:\我的文档-桌面-收藏夹\桌面\6608733_111540136000_2副本.png"/>
              <p:cNvPicPr/>
              <p:nvPr/>
            </p:nvPicPr>
            <p:blipFill>
              <a:blip r:embed="rId6"/>
              <a:stretch/>
            </p:blipFill>
            <p:spPr>
              <a:xfrm flipH="1">
                <a:off x="175716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Picture 7" descr="D:\我的文档-桌面-收藏夹\桌面\6608733_111540136000_2副本.png"/>
              <p:cNvPicPr/>
              <p:nvPr/>
            </p:nvPicPr>
            <p:blipFill>
              <a:blip r:embed="rId7"/>
              <a:stretch/>
            </p:blipFill>
            <p:spPr>
              <a:xfrm flipH="1">
                <a:off x="1709640" y="399960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48" name="Picture 5" descr="D:\我的文档-桌面-收藏夹\桌面\40r58PICIfT.jpg"/>
            <p:cNvPicPr/>
            <p:nvPr/>
          </p:nvPicPr>
          <p:blipFill>
            <a:blip r:embed="rId8"/>
            <a:srcRect l="30003" t="19515" r="28463" b="12804"/>
            <a:stretch/>
          </p:blipFill>
          <p:spPr>
            <a:xfrm>
              <a:off x="2714760" y="3714840"/>
              <a:ext cx="1905120" cy="12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9" name="组合 49"/>
            <p:cNvGrpSpPr/>
            <p:nvPr/>
          </p:nvGrpSpPr>
          <p:grpSpPr>
            <a:xfrm>
              <a:off x="2771280" y="3700440"/>
              <a:ext cx="1714680" cy="1285920"/>
              <a:chOff x="2771280" y="3700440"/>
              <a:chExt cx="1714680" cy="1285920"/>
            </a:xfrm>
          </p:grpSpPr>
          <p:pic>
            <p:nvPicPr>
              <p:cNvPr id="1150" name="Picture 7" descr="D:\我的文档-桌面-收藏夹\桌面\6608733_111540136000_2副本.png"/>
              <p:cNvPicPr/>
              <p:nvPr/>
            </p:nvPicPr>
            <p:blipFill>
              <a:blip r:embed="rId9"/>
              <a:stretch/>
            </p:blipFill>
            <p:spPr>
              <a:xfrm>
                <a:off x="2771280" y="374436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Picture 7" descr="D:\我的文档-桌面-收藏夹\桌面\6608733_111540136000_2副本.png"/>
              <p:cNvPicPr/>
              <p:nvPr/>
            </p:nvPicPr>
            <p:blipFill>
              <a:blip r:embed="rId10"/>
              <a:stretch/>
            </p:blipFill>
            <p:spPr>
              <a:xfrm>
                <a:off x="2771280" y="401760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Picture 7" descr="D:\我的文档-桌面-收藏夹\桌面\6608733_111540136000_2副本.png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25728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Picture 7" descr="D:\我的文档-桌面-收藏夹\桌面\6608733_111540136000_2副本.png"/>
              <p:cNvPicPr/>
              <p:nvPr/>
            </p:nvPicPr>
            <p:blipFill>
              <a:blip r:embed="rId12"/>
              <a:stretch/>
            </p:blipFill>
            <p:spPr>
              <a:xfrm flipH="1">
                <a:off x="3209760" y="405252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Picture 7" descr="D:\我的文档-桌面-收藏夹\桌面\6608733_111540136000_2副本.png"/>
              <p:cNvPicPr/>
              <p:nvPr/>
            </p:nvPicPr>
            <p:blipFill>
              <a:blip r:embed="rId13"/>
              <a:stretch/>
            </p:blipFill>
            <p:spPr>
              <a:xfrm flipH="1">
                <a:off x="368604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Picture 7" descr="D:\我的文档-桌面-收藏夹\桌面\6608733_111540136000_2副本.png"/>
              <p:cNvPicPr/>
              <p:nvPr/>
            </p:nvPicPr>
            <p:blipFill>
              <a:blip r:embed="rId14"/>
              <a:stretch/>
            </p:blipFill>
            <p:spPr>
              <a:xfrm flipH="1">
                <a:off x="3638520" y="399960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6" name="Picture 5" descr="D:\我的文档-桌面-收藏夹\桌面\40r58PICIfT.jpg"/>
            <p:cNvPicPr/>
            <p:nvPr/>
          </p:nvPicPr>
          <p:blipFill>
            <a:blip r:embed="rId15"/>
            <a:srcRect l="30003" t="19515" r="28463" b="12804"/>
            <a:stretch/>
          </p:blipFill>
          <p:spPr>
            <a:xfrm>
              <a:off x="4715280" y="3714840"/>
              <a:ext cx="1905120" cy="12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7" name="组合 57"/>
            <p:cNvGrpSpPr/>
            <p:nvPr/>
          </p:nvGrpSpPr>
          <p:grpSpPr>
            <a:xfrm>
              <a:off x="4771800" y="3700440"/>
              <a:ext cx="1714680" cy="1285920"/>
              <a:chOff x="4771800" y="3700440"/>
              <a:chExt cx="1714680" cy="1285920"/>
            </a:xfrm>
          </p:grpSpPr>
          <p:pic>
            <p:nvPicPr>
              <p:cNvPr id="1158" name="Picture 7" descr="D:\我的文档-桌面-收藏夹\桌面\6608733_111540136000_2副本.png"/>
              <p:cNvPicPr/>
              <p:nvPr/>
            </p:nvPicPr>
            <p:blipFill>
              <a:blip r:embed="rId16"/>
              <a:stretch/>
            </p:blipFill>
            <p:spPr>
              <a:xfrm>
                <a:off x="4771800" y="374436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Picture 7" descr="D:\我的文档-桌面-收藏夹\桌面\6608733_111540136000_2副本.png"/>
              <p:cNvPicPr/>
              <p:nvPr/>
            </p:nvPicPr>
            <p:blipFill>
              <a:blip r:embed="rId17"/>
              <a:stretch/>
            </p:blipFill>
            <p:spPr>
              <a:xfrm>
                <a:off x="4771800" y="401760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Picture 7" descr="D:\我的文档-桌面-收藏夹\桌面\6608733_111540136000_2副本.png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25780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Picture 7" descr="D:\我的文档-桌面-收藏夹\桌面\6608733_111540136000_2副本.png"/>
              <p:cNvPicPr/>
              <p:nvPr/>
            </p:nvPicPr>
            <p:blipFill>
              <a:blip r:embed="rId19"/>
              <a:stretch/>
            </p:blipFill>
            <p:spPr>
              <a:xfrm flipH="1">
                <a:off x="5210280" y="405252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Picture 7" descr="D:\我的文档-桌面-收藏夹\桌面\6608733_111540136000_2副本.png"/>
              <p:cNvPicPr/>
              <p:nvPr/>
            </p:nvPicPr>
            <p:blipFill>
              <a:blip r:embed="rId20"/>
              <a:stretch/>
            </p:blipFill>
            <p:spPr>
              <a:xfrm flipH="1">
                <a:off x="568656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Picture 7" descr="D:\我的文档-桌面-收藏夹\桌面\6608733_111540136000_2副本.png"/>
              <p:cNvPicPr/>
              <p:nvPr/>
            </p:nvPicPr>
            <p:blipFill>
              <a:blip r:embed="rId21"/>
              <a:stretch/>
            </p:blipFill>
            <p:spPr>
              <a:xfrm flipH="1">
                <a:off x="5639040" y="399960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64" name="Picture 5" descr="D:\我的文档-桌面-收藏夹\桌面\40r58PICIfT.jpg"/>
            <p:cNvPicPr/>
            <p:nvPr/>
          </p:nvPicPr>
          <p:blipFill>
            <a:blip r:embed="rId22"/>
            <a:srcRect l="30003" t="19515" r="28463" b="12804"/>
            <a:stretch/>
          </p:blipFill>
          <p:spPr>
            <a:xfrm>
              <a:off x="6629400" y="3714840"/>
              <a:ext cx="1905120" cy="12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组合 65"/>
            <p:cNvGrpSpPr/>
            <p:nvPr/>
          </p:nvGrpSpPr>
          <p:grpSpPr>
            <a:xfrm>
              <a:off x="6685920" y="3700440"/>
              <a:ext cx="1714680" cy="1285920"/>
              <a:chOff x="6685920" y="3700440"/>
              <a:chExt cx="1714680" cy="1285920"/>
            </a:xfrm>
          </p:grpSpPr>
          <p:pic>
            <p:nvPicPr>
              <p:cNvPr id="1166" name="Picture 7" descr="D:\我的文档-桌面-收藏夹\桌面\6608733_111540136000_2副本.png"/>
              <p:cNvPicPr/>
              <p:nvPr/>
            </p:nvPicPr>
            <p:blipFill>
              <a:blip r:embed="rId23"/>
              <a:stretch/>
            </p:blipFill>
            <p:spPr>
              <a:xfrm>
                <a:off x="6685920" y="374436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Picture 7" descr="D:\我的文档-桌面-收藏夹\桌面\6608733_111540136000_2副本.png"/>
              <p:cNvPicPr/>
              <p:nvPr/>
            </p:nvPicPr>
            <p:blipFill>
              <a:blip r:embed="rId24"/>
              <a:stretch/>
            </p:blipFill>
            <p:spPr>
              <a:xfrm>
                <a:off x="6685920" y="4017600"/>
                <a:ext cx="762120" cy="88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Picture 7" descr="D:\我的文档-桌面-收藏夹\桌面\6608733_111540136000_2副本.png"/>
              <p:cNvPicPr/>
              <p:nvPr/>
            </p:nvPicPr>
            <p:blipFill>
              <a:blip r:embed="rId25"/>
              <a:stretch/>
            </p:blipFill>
            <p:spPr>
              <a:xfrm flipH="1">
                <a:off x="717192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Picture 7" descr="D:\我的文档-桌面-收藏夹\桌面\6608733_111540136000_2副本.png"/>
              <p:cNvPicPr/>
              <p:nvPr/>
            </p:nvPicPr>
            <p:blipFill>
              <a:blip r:embed="rId26"/>
              <a:stretch/>
            </p:blipFill>
            <p:spPr>
              <a:xfrm flipH="1">
                <a:off x="7124400" y="405252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Picture 7" descr="D:\我的文档-桌面-收藏夹\桌面\6608733_111540136000_2副本.png"/>
              <p:cNvPicPr/>
              <p:nvPr/>
            </p:nvPicPr>
            <p:blipFill>
              <a:blip r:embed="rId27"/>
              <a:stretch/>
            </p:blipFill>
            <p:spPr>
              <a:xfrm flipH="1">
                <a:off x="7600680" y="370044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Picture 7" descr="D:\我的文档-桌面-收藏夹\桌面\6608733_111540136000_2副本.png"/>
              <p:cNvPicPr/>
              <p:nvPr/>
            </p:nvPicPr>
            <p:blipFill>
              <a:blip r:embed="rId28"/>
              <a:stretch/>
            </p:blipFill>
            <p:spPr>
              <a:xfrm flipH="1">
                <a:off x="7553160" y="3999600"/>
                <a:ext cx="799920" cy="93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矩形 72"/>
          <p:cNvSpPr/>
          <p:nvPr/>
        </p:nvSpPr>
        <p:spPr>
          <a:xfrm>
            <a:off x="714240" y="514368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共有多少个    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7" descr="D:\我的文档-桌面-收藏夹\桌面\6608733_111540136000_2副本.png"/>
          <p:cNvPicPr/>
          <p:nvPr/>
        </p:nvPicPr>
        <p:blipFill>
          <a:blip r:embed="rId29"/>
          <a:stretch/>
        </p:blipFill>
        <p:spPr>
          <a:xfrm>
            <a:off x="2571840" y="4995720"/>
            <a:ext cx="799920" cy="933480"/>
          </a:xfrm>
          <a:prstGeom prst="rect">
            <a:avLst/>
          </a:prstGeom>
          <a:ln w="0">
            <a:noFill/>
          </a:ln>
        </p:spPr>
      </p:pic>
      <p:sp>
        <p:nvSpPr>
          <p:cNvPr id="1174" name="矩形 74"/>
          <p:cNvSpPr/>
          <p:nvPr/>
        </p:nvSpPr>
        <p:spPr>
          <a:xfrm>
            <a:off x="2928960" y="5786280"/>
            <a:ext cx="21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6=2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组合 2"/>
          <p:cNvGrpSpPr/>
          <p:nvPr/>
        </p:nvGrpSpPr>
        <p:grpSpPr>
          <a:xfrm>
            <a:off x="22320" y="87480"/>
            <a:ext cx="3124080" cy="527040"/>
            <a:chOff x="22320" y="87480"/>
            <a:chExt cx="3124080" cy="527040"/>
          </a:xfrm>
        </p:grpSpPr>
        <p:pic>
          <p:nvPicPr>
            <p:cNvPr id="1176" name="圆角矩形 25" descr=""/>
            <p:cNvPicPr/>
            <p:nvPr/>
          </p:nvPicPr>
          <p:blipFill>
            <a:blip r:embed="rId30"/>
            <a:stretch/>
          </p:blipFill>
          <p:spPr>
            <a:xfrm>
              <a:off x="166320" y="87480"/>
              <a:ext cx="2980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7" name="组合 4"/>
            <p:cNvGrpSpPr/>
            <p:nvPr/>
          </p:nvGrpSpPr>
          <p:grpSpPr>
            <a:xfrm>
              <a:off x="22320" y="182520"/>
              <a:ext cx="413640" cy="274680"/>
              <a:chOff x="22320" y="182520"/>
              <a:chExt cx="413640" cy="274680"/>
            </a:xfrm>
          </p:grpSpPr>
          <p:sp>
            <p:nvSpPr>
              <p:cNvPr id="1178" name="椭圆 27"/>
              <p:cNvSpPr/>
              <p:nvPr/>
            </p:nvSpPr>
            <p:spPr>
              <a:xfrm rot="16200000">
                <a:off x="262440" y="34848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9" name="椭圆 28" descr=""/>
              <p:cNvPicPr/>
              <p:nvPr/>
            </p:nvPicPr>
            <p:blipFill>
              <a:blip r:embed="rId31"/>
              <a:stretch/>
            </p:blipFill>
            <p:spPr>
              <a:xfrm>
                <a:off x="226800" y="314640"/>
                <a:ext cx="20916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椭圆 29"/>
              <p:cNvSpPr/>
              <p:nvPr/>
            </p:nvSpPr>
            <p:spPr>
              <a:xfrm rot="16200000">
                <a:off x="262440" y="22212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1" name="椭圆 31" descr=""/>
              <p:cNvPicPr/>
              <p:nvPr/>
            </p:nvPicPr>
            <p:blipFill>
              <a:blip r:embed="rId32"/>
              <a:stretch/>
            </p:blipFill>
            <p:spPr>
              <a:xfrm>
                <a:off x="226800" y="197640"/>
                <a:ext cx="209160" cy="11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32" descr=""/>
              <p:cNvPicPr/>
              <p:nvPr/>
            </p:nvPicPr>
            <p:blipFill>
              <a:blip r:embed="rId33"/>
              <a:stretch/>
            </p:blipFill>
            <p:spPr>
              <a:xfrm>
                <a:off x="22320" y="331560"/>
                <a:ext cx="34092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圆角矩形 33" descr=""/>
              <p:cNvPicPr/>
              <p:nvPr/>
            </p:nvPicPr>
            <p:blipFill>
              <a:blip r:embed="rId34"/>
              <a:stretch/>
            </p:blipFill>
            <p:spPr>
              <a:xfrm>
                <a:off x="22320" y="302040"/>
                <a:ext cx="34092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圆角矩形 34" descr=""/>
              <p:cNvPicPr/>
              <p:nvPr/>
            </p:nvPicPr>
            <p:blipFill>
              <a:blip r:embed="rId35"/>
              <a:stretch/>
            </p:blipFill>
            <p:spPr>
              <a:xfrm>
                <a:off x="22320" y="211680"/>
                <a:ext cx="34092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35" descr=""/>
              <p:cNvPicPr/>
              <p:nvPr/>
            </p:nvPicPr>
            <p:blipFill>
              <a:blip r:embed="rId36"/>
              <a:stretch/>
            </p:blipFill>
            <p:spPr>
              <a:xfrm>
                <a:off x="22320" y="182520"/>
                <a:ext cx="340920" cy="10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6" name="Rectangle 64"/>
          <p:cNvSpPr/>
          <p:nvPr/>
        </p:nvSpPr>
        <p:spPr>
          <a:xfrm>
            <a:off x="152280" y="66600"/>
            <a:ext cx="2949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4128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一、把口诀填完整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二六（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十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）       五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三十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六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六三十六        四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二十四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一六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得六     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二九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十八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三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十八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  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六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三十六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900" spc="-1" strike="noStrike">
                <a:solidFill>
                  <a:srgbClr val="ff0000"/>
                </a:solidFill>
                <a:latin typeface="Arial"/>
              </a:rPr>
              <a:t>六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十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组合 2"/>
          <p:cNvGrpSpPr/>
          <p:nvPr/>
        </p:nvGrpSpPr>
        <p:grpSpPr>
          <a:xfrm>
            <a:off x="22320" y="87480"/>
            <a:ext cx="3149640" cy="527040"/>
            <a:chOff x="22320" y="87480"/>
            <a:chExt cx="3149640" cy="527040"/>
          </a:xfrm>
        </p:grpSpPr>
        <p:pic>
          <p:nvPicPr>
            <p:cNvPr id="1189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67760" y="87480"/>
              <a:ext cx="300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0" name="组合 4"/>
            <p:cNvGrpSpPr/>
            <p:nvPr/>
          </p:nvGrpSpPr>
          <p:grpSpPr>
            <a:xfrm>
              <a:off x="22320" y="182520"/>
              <a:ext cx="417240" cy="274680"/>
              <a:chOff x="22320" y="182520"/>
              <a:chExt cx="417240" cy="274680"/>
            </a:xfrm>
          </p:grpSpPr>
          <p:sp>
            <p:nvSpPr>
              <p:cNvPr id="1191" name="椭圆 27"/>
              <p:cNvSpPr/>
              <p:nvPr/>
            </p:nvSpPr>
            <p:spPr>
              <a:xfrm rot="16200000">
                <a:off x="263160" y="34812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2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680" y="313560"/>
                <a:ext cx="20988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3" name="椭圆 29"/>
              <p:cNvSpPr/>
              <p:nvPr/>
            </p:nvSpPr>
            <p:spPr>
              <a:xfrm rot="16200000">
                <a:off x="263160" y="22140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4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9680" y="197640"/>
                <a:ext cx="209880" cy="11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30480"/>
                <a:ext cx="34416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301320"/>
                <a:ext cx="34416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211320"/>
                <a:ext cx="34416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82520"/>
                <a:ext cx="344160" cy="102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9" name="矩形 1"/>
          <p:cNvSpPr/>
          <p:nvPr/>
        </p:nvSpPr>
        <p:spPr>
          <a:xfrm>
            <a:off x="1552680" y="1797120"/>
            <a:ext cx="76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矩形 2"/>
          <p:cNvSpPr/>
          <p:nvPr/>
        </p:nvSpPr>
        <p:spPr>
          <a:xfrm>
            <a:off x="4352760" y="1733400"/>
            <a:ext cx="9558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矩形 3"/>
          <p:cNvSpPr/>
          <p:nvPr/>
        </p:nvSpPr>
        <p:spPr>
          <a:xfrm>
            <a:off x="666720" y="2606760"/>
            <a:ext cx="3938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矩形 4"/>
          <p:cNvSpPr/>
          <p:nvPr/>
        </p:nvSpPr>
        <p:spPr>
          <a:xfrm>
            <a:off x="4467240" y="2616120"/>
            <a:ext cx="131904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矩形 5"/>
          <p:cNvSpPr/>
          <p:nvPr/>
        </p:nvSpPr>
        <p:spPr>
          <a:xfrm>
            <a:off x="826920" y="3414600"/>
            <a:ext cx="9892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矩形 6"/>
          <p:cNvSpPr/>
          <p:nvPr/>
        </p:nvSpPr>
        <p:spPr>
          <a:xfrm>
            <a:off x="3879720" y="3463920"/>
            <a:ext cx="9892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矩形 7"/>
          <p:cNvSpPr/>
          <p:nvPr/>
        </p:nvSpPr>
        <p:spPr>
          <a:xfrm>
            <a:off x="1338120" y="4226040"/>
            <a:ext cx="9892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8"/>
          <p:cNvSpPr/>
          <p:nvPr/>
        </p:nvSpPr>
        <p:spPr>
          <a:xfrm>
            <a:off x="4073400" y="4238640"/>
            <a:ext cx="1270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矩形 9"/>
          <p:cNvSpPr/>
          <p:nvPr/>
        </p:nvSpPr>
        <p:spPr>
          <a:xfrm>
            <a:off x="1047600" y="5046840"/>
            <a:ext cx="590760" cy="45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406440" y="1079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填一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×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－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＋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10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1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12" name="椭圆 2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3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4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5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0" name="Rectangle 64"/>
          <p:cNvSpPr/>
          <p:nvPr/>
        </p:nvSpPr>
        <p:spPr>
          <a:xfrm>
            <a:off x="452520" y="4932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矩形 1"/>
          <p:cNvSpPr/>
          <p:nvPr/>
        </p:nvSpPr>
        <p:spPr>
          <a:xfrm>
            <a:off x="3135240" y="177480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矩形 3"/>
          <p:cNvSpPr/>
          <p:nvPr/>
        </p:nvSpPr>
        <p:spPr>
          <a:xfrm>
            <a:off x="6246720" y="1752480"/>
            <a:ext cx="4064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>
            <a:off x="2019240" y="2367000"/>
            <a:ext cx="4064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5"/>
          <p:cNvSpPr/>
          <p:nvPr/>
        </p:nvSpPr>
        <p:spPr>
          <a:xfrm>
            <a:off x="5487840" y="2347920"/>
            <a:ext cx="4064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矩形 6"/>
          <p:cNvSpPr/>
          <p:nvPr/>
        </p:nvSpPr>
        <p:spPr>
          <a:xfrm>
            <a:off x="7254720" y="2316240"/>
            <a:ext cx="4795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矩形 7"/>
          <p:cNvSpPr/>
          <p:nvPr/>
        </p:nvSpPr>
        <p:spPr>
          <a:xfrm>
            <a:off x="3095640" y="2925720"/>
            <a:ext cx="29376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8"/>
          <p:cNvSpPr/>
          <p:nvPr/>
        </p:nvSpPr>
        <p:spPr>
          <a:xfrm>
            <a:off x="4546440" y="2935440"/>
            <a:ext cx="3254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矩形 9"/>
          <p:cNvSpPr/>
          <p:nvPr/>
        </p:nvSpPr>
        <p:spPr>
          <a:xfrm>
            <a:off x="2101680" y="3548160"/>
            <a:ext cx="32400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10"/>
          <p:cNvSpPr/>
          <p:nvPr/>
        </p:nvSpPr>
        <p:spPr>
          <a:xfrm>
            <a:off x="3932280" y="3521160"/>
            <a:ext cx="3776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11"/>
          <p:cNvSpPr/>
          <p:nvPr/>
        </p:nvSpPr>
        <p:spPr>
          <a:xfrm>
            <a:off x="5645160" y="3508200"/>
            <a:ext cx="3776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12"/>
          <p:cNvSpPr/>
          <p:nvPr/>
        </p:nvSpPr>
        <p:spPr>
          <a:xfrm>
            <a:off x="2182680" y="4143240"/>
            <a:ext cx="37800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矩形 13"/>
          <p:cNvSpPr/>
          <p:nvPr/>
        </p:nvSpPr>
        <p:spPr>
          <a:xfrm>
            <a:off x="3870360" y="4127400"/>
            <a:ext cx="3794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15"/>
          <p:cNvSpPr/>
          <p:nvPr/>
        </p:nvSpPr>
        <p:spPr>
          <a:xfrm>
            <a:off x="5548320" y="4113360"/>
            <a:ext cx="3794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矩形 16"/>
          <p:cNvSpPr/>
          <p:nvPr/>
        </p:nvSpPr>
        <p:spPr>
          <a:xfrm>
            <a:off x="7423200" y="4097160"/>
            <a:ext cx="37944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422280" y="9932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我会填“＋”“－”或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    3=6          6      5 =11         2      5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    5=13       4       2 =8           6      3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     5=25       3      2 =6            4       6=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37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39" name="椭圆 2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0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2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3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6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7" name="Rectangle 64"/>
          <p:cNvSpPr/>
          <p:nvPr/>
        </p:nvSpPr>
        <p:spPr>
          <a:xfrm>
            <a:off x="452520" y="4932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51786"/>
          <p:cNvSpPr/>
          <p:nvPr/>
        </p:nvSpPr>
        <p:spPr>
          <a:xfrm>
            <a:off x="709560" y="1935000"/>
            <a:ext cx="47484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51786"/>
          <p:cNvSpPr/>
          <p:nvPr/>
        </p:nvSpPr>
        <p:spPr>
          <a:xfrm>
            <a:off x="2955960" y="1935000"/>
            <a:ext cx="4744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51786"/>
          <p:cNvSpPr/>
          <p:nvPr/>
        </p:nvSpPr>
        <p:spPr>
          <a:xfrm>
            <a:off x="5446800" y="1935000"/>
            <a:ext cx="4744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51786"/>
          <p:cNvSpPr/>
          <p:nvPr/>
        </p:nvSpPr>
        <p:spPr>
          <a:xfrm>
            <a:off x="709560" y="2967120"/>
            <a:ext cx="47484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51786"/>
          <p:cNvSpPr/>
          <p:nvPr/>
        </p:nvSpPr>
        <p:spPr>
          <a:xfrm>
            <a:off x="2955960" y="2967120"/>
            <a:ext cx="4744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51786"/>
          <p:cNvSpPr/>
          <p:nvPr/>
        </p:nvSpPr>
        <p:spPr>
          <a:xfrm>
            <a:off x="5446800" y="2967120"/>
            <a:ext cx="4744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51786"/>
          <p:cNvSpPr/>
          <p:nvPr/>
        </p:nvSpPr>
        <p:spPr>
          <a:xfrm>
            <a:off x="709560" y="3902040"/>
            <a:ext cx="47484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51786"/>
          <p:cNvSpPr/>
          <p:nvPr/>
        </p:nvSpPr>
        <p:spPr>
          <a:xfrm>
            <a:off x="2870280" y="3902040"/>
            <a:ext cx="47448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51786"/>
          <p:cNvSpPr/>
          <p:nvPr/>
        </p:nvSpPr>
        <p:spPr>
          <a:xfrm>
            <a:off x="5521320" y="3902040"/>
            <a:ext cx="47304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47"/>
          <p:cNvSpPr/>
          <p:nvPr/>
        </p:nvSpPr>
        <p:spPr>
          <a:xfrm>
            <a:off x="768240" y="195120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48"/>
          <p:cNvSpPr/>
          <p:nvPr/>
        </p:nvSpPr>
        <p:spPr>
          <a:xfrm>
            <a:off x="3006720" y="193500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文本框 49"/>
          <p:cNvSpPr/>
          <p:nvPr/>
        </p:nvSpPr>
        <p:spPr>
          <a:xfrm>
            <a:off x="5464080" y="193500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文本框 51"/>
          <p:cNvSpPr/>
          <p:nvPr/>
        </p:nvSpPr>
        <p:spPr>
          <a:xfrm>
            <a:off x="768240" y="296712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文本框 53"/>
          <p:cNvSpPr/>
          <p:nvPr/>
        </p:nvSpPr>
        <p:spPr>
          <a:xfrm>
            <a:off x="2990880" y="296712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55"/>
          <p:cNvSpPr/>
          <p:nvPr/>
        </p:nvSpPr>
        <p:spPr>
          <a:xfrm>
            <a:off x="5548320" y="296712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56"/>
          <p:cNvSpPr/>
          <p:nvPr/>
        </p:nvSpPr>
        <p:spPr>
          <a:xfrm>
            <a:off x="768240" y="391968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58"/>
          <p:cNvSpPr/>
          <p:nvPr/>
        </p:nvSpPr>
        <p:spPr>
          <a:xfrm>
            <a:off x="2948040" y="39085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59"/>
          <p:cNvSpPr/>
          <p:nvPr/>
        </p:nvSpPr>
        <p:spPr>
          <a:xfrm>
            <a:off x="5580000" y="393552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 txBox="1"/>
          <p:nvPr/>
        </p:nvSpPr>
        <p:spPr>
          <a:xfrm>
            <a:off x="422280" y="9932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刘老师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盒乒乓球，每盒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，同学们借走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，还剩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7=1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还剩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68" name="圆角矩形 2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9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70" name="椭圆 27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1" name="椭圆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2" name="椭圆 2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3" name="椭圆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圆角矩形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圆角矩形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圆角矩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8" name="Rectangle 64"/>
          <p:cNvSpPr/>
          <p:nvPr/>
        </p:nvSpPr>
        <p:spPr>
          <a:xfrm>
            <a:off x="452520" y="4932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矩形 1"/>
          <p:cNvSpPr/>
          <p:nvPr/>
        </p:nvSpPr>
        <p:spPr>
          <a:xfrm>
            <a:off x="2019240" y="2717640"/>
            <a:ext cx="356724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5:00Z</dcterms:created>
  <dc:creator/>
  <dc:description/>
  <dc:language>en-US</dc:language>
  <cp:lastModifiedBy>万润仪器贸易公司</cp:lastModifiedBy>
  <dcterms:modified xsi:type="dcterms:W3CDTF">2020-08-21T00:36:41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